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578D-63FE-4C2D-91CF-AEA2DC4D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3AAA-EC63-4868-BDB0-718FD1E7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534EB-30A0-4E77-9550-B52495D8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B2BC6-9EAB-4B04-AA3F-94039B8B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E4780-A5B4-4E00-88A4-65204B7A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A85EF-A1A8-4EE6-A3B9-D92FEE0C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0EE73-EFC2-4428-9962-66A64D92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BCD9A-BE55-46DB-9493-CE195B73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0F29E-6EB5-42E8-8316-96A0821D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DE451-C684-4487-847D-3EDBC6A0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036C3-F92A-46D8-A37C-6BE0D584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F747F-E6D3-44D6-9DCD-65B122CA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F059-BD66-4CCE-B27B-DBA1B498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5B825-7BBD-4C17-8303-A1E79600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4B176-13A4-4AA9-AF39-CE64FD1B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7FB5F-FD3B-45B0-BB44-A37321F8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9444F-47B2-43CB-99BB-AE24680E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E0B47-8059-43D2-82F8-E4ABBA23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056F0-5F25-4B55-9539-A163C6AC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B2605-5B44-4486-9A76-D8A14C8B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3D061-7602-43B8-9942-D7B56805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C7513-700D-4E8E-B097-9348E5B3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FE518-1A4F-41E0-BF4E-46F409B2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9F8-68FC-4AAB-8297-6C466DF9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52F4C-CA9B-42FF-B547-45F799AF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4C3D6-B36F-46C6-AB91-BBD3E3AC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9E86F-2C87-43CC-90F0-0BF374EF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0B096-E350-4B75-A15C-45584DE2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E3B49-0F17-4DDB-896E-D1387C9A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71A48-EEC4-4CB7-9E70-078C7C6A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54037-92EE-4A9C-A245-60695414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A092F-A6E1-4CDE-9A73-58C2F0B0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F8C55-FFA5-4EA4-B2CD-BCCCEAFB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DD76B-5C60-4E5F-913D-9DFD635B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2FC0-31B5-44C2-A5D0-E3EF96D3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BFA73-8BC7-4B43-805C-915AAA15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4D4F8-7B83-418D-811A-1C107CC0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44077-6D6D-4949-96ED-460F2D6E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5008-6553-4428-8ED6-F28355AC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2D23-329C-4628-8427-71202D88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74A2-B490-4901-9629-CFA0506A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CE33-7E1D-486B-A944-D1852890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0773-BAA5-4F64-A075-808E84B7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4F0E-C9C9-4B2C-A39F-235CF8A9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5508-B829-4F6C-9911-A6086E03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0B63-B6D8-426B-8AC0-D8DA6F18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E536-943B-46D9-B59C-CAE5F3C1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C959-84CD-48F6-9EE8-B092C5A5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E9D8-F9AC-469C-A502-9B3373A5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6CD4-FD4F-4635-97B0-9D561812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F00B5-F933-4F01-92EF-62720044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FA2ED-96E5-430D-9A07-89C4F2E1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DF091-1BC4-4786-BC8D-493CC97E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457A8-80E1-44C2-885D-6EA5B3DE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2869E-015B-406D-968A-92314935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0393-6433-42BD-8E93-CE719604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C9883-640C-4E60-85DD-99394EF4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9432D-5D49-42A2-A7C1-24473C30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5AEB3-1943-4639-9DF7-35600954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6F2E3-94B0-463B-94AA-D1597D73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935CD-1286-4981-8684-CAAFF12D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0C665-5885-4FA9-9C3C-2D2FD0C8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45AA0-CDDA-4B52-9552-C4D94F2C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EFABB-6D71-4B2D-82A0-957809FF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A2B79-26CD-45E5-AE34-F12D1003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F5A62-3096-4D20-9F2E-286071FE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5A0-7FBC-4B1A-A75E-BC83155C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39230-1DBE-4810-94D7-39C7F3A8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00C9D-7391-487D-954E-33FBE1F3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9C404-CC0D-488A-96AA-03424A25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E9FD4-64B7-44A1-A10D-0F089BF3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12C9A-9293-40BA-B749-4699B77B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D07B2-CB50-4674-921C-91808F20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141FD-C49F-48C1-A905-43BD885E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EA8F9-103F-4CC7-878E-2A84991F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81C61-1EA8-454E-80CD-944EB9F5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BB51D-3F95-4568-8838-311D1D6C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4F70-ABA9-4AC2-BEB9-FADD3B04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B15D7-25E4-4658-B281-C0F46D13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588C4-57C6-4F76-97B6-BF77690F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3F360-2783-4F98-B88E-358978BD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8602C-68F7-4870-9344-49698EEA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3387A-7205-4F9A-A52D-04F5A50B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AE624-A489-4EEA-A1C6-45539932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8A37A-6126-4BC8-A6C6-F7117B6C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4058A-BE6A-4DBC-9B80-71314FC5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59E2D-0B1C-4FBF-9A70-C3E572C5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D6751-7A41-4665-83D2-59B6806A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F02A-6787-4405-8B83-7EBB5315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999E8-592D-4D35-91C1-4DA42601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DFC69-B20F-479E-99B3-69CEFE80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7A5D3-AFBE-4B32-8170-4BF30BB4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F997A-C639-438E-9BFD-B7668FA2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73C47-78F7-49E0-8E3F-50B4426A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BDE88-8E15-4A4B-B711-097E7558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9C9BD-6D96-4F6E-80FF-95B9D98E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98D97-EE06-4F29-B69D-DDFA294D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40130-D6CF-4707-BB0A-4B57B133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DE465-4137-460F-8AFB-CF41433D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E11-7368-441D-9897-79F31C15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1F5F8-03A0-4500-BC46-2F904442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4A75D-24A7-4608-BEBD-9CE98143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1F766-359A-4E05-BE66-35908218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9C1CE-207D-4E8C-9F4E-FE103625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8543F-4FD0-4CA3-BF31-E0211A82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D6806-3E03-4EC8-9239-D084F3BC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398EC-27F8-4D27-BDCD-C7AAE920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0127B-8E31-4FF4-A53D-39A3B691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3A5FD-874C-4389-BBEB-7B53E0C4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87C2F-4FF3-4CF8-9C0D-EB8A0564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CDAB-CE1F-4B6C-A605-0E6AB597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B7B51-7AFC-4DA8-96C7-47DC58F7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5E539-50AA-4AA9-AD71-F0568091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E14E4-FE58-404B-9A42-4703B13A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FF88E-2AAC-4C84-B03C-813919DF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FCBE5-C434-4D27-A029-76F01A32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36B0B-E273-458B-ACB5-72C618BA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0B439-F343-447E-8E73-CDF9C56E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F0900-AE88-4590-A3F6-433256FC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F8017-AA20-4F9C-B15A-9C837D31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C71B3-8778-4016-ADD4-0A158750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CDC-91B6-4090-A65A-03D6E744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516A0-9E61-4963-BDEF-B2A47AAC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822BA-A399-49F8-B092-B8B2AEDC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35B21-1597-46EF-A605-813CB410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DA521-4868-404E-9126-5AA6B143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CB092-37DD-439A-8989-BE1C0C14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583F0-E205-491B-83B7-25AE0B51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285C7-6CE4-4B4A-9D62-213EEC63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229F3-F970-4413-AE69-F96E5C64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83F10-5B16-4C9D-8834-D4618B69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4E133-1018-446F-A01B-F0DE1671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75ED-E2EE-48C2-A40C-ED2D5A2CAA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3E6E-30CC-4510-86C6-8B0FD2B29F1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7D5C-FCA9-4B02-AF11-9D00653467DD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2687-0E6A-428B-833E-EBA6B32928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C3FC-51BF-4FEC-93C7-94EEEE95223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47DC-660B-4EC3-BB2D-9E504B4536C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5778-6407-41C5-86AF-72DCCD93CB9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D9AC-34AE-40D2-9EF5-F638A5CEE75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ACB9-01BF-46A1-9577-27737CEBD5E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9985-808D-4D69-BC1C-BE4E451AB44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2CF3-4487-40E7-8D00-22861690A5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d.wav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t.wav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n.wav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l.wav" TargetMode="External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file:///d.exe" TargetMode="External"/><Relationship Id="rId4" Type="http://schemas.openxmlformats.org/officeDocument/2006/relationships/image" Target="../media/image11.png"/><Relationship Id="rId5" Type="http://schemas.openxmlformats.org/officeDocument/2006/relationships/hyperlink" Target="file:///t.exe" TargetMode="External"/><Relationship Id="rId6" Type="http://schemas.openxmlformats.org/officeDocument/2006/relationships/image" Target="../media/image12.png"/><Relationship Id="rId7" Type="http://schemas.openxmlformats.org/officeDocument/2006/relationships/hyperlink" Target="file:///n.exe" TargetMode="External"/><Relationship Id="rId8" Type="http://schemas.openxmlformats.org/officeDocument/2006/relationships/image" Target="../media/image13.png"/><Relationship Id="rId9" Type="http://schemas.openxmlformats.org/officeDocument/2006/relationships/hyperlink" Target="file:///l.exe" TargetMode="External"/><Relationship Id="rId10" Type="http://schemas.openxmlformats.org/officeDocument/2006/relationships/image" Target="../media/image1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E:\教学资料\杨黎黎教后记\dtn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452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746F-C491-40DC-8A7D-DA587262B45B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3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4" name="矩形 12293"/>
          <p:cNvSpPr/>
          <p:nvPr/>
        </p:nvSpPr>
        <p:spPr>
          <a:xfrm>
            <a:off x="0" y="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5" name="矩形 12294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www.Lspjy.com </a:t>
            </a: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cz.Lspjy.com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E:\work\新课标配套课件全集\小学全集\mxy\小学语文\图片\0dyd.gif"/>
          <p:cNvPicPr/>
          <p:nvPr/>
        </p:nvPicPr>
        <p:blipFill>
          <a:blip r:embed="rId2"/>
          <a:stretch/>
        </p:blipFill>
        <p:spPr>
          <a:xfrm>
            <a:off x="106524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3"/>
          <p:cNvSpPr/>
          <p:nvPr/>
        </p:nvSpPr>
        <p:spPr>
          <a:xfrm>
            <a:off x="3747960" y="1687680"/>
            <a:ext cx="66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d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4475160" y="1676520"/>
            <a:ext cx="63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e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3016440" y="2971800"/>
            <a:ext cx="34063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e   dē   dé   d</a:t>
            </a:r>
            <a:r>
              <a:rPr b="1" lang="en-US" sz="2800" spc="-1" strike="noStrike">
                <a:solidFill>
                  <a:srgbClr val="800080"/>
                </a:solidFill>
                <a:latin typeface="Century Gothic"/>
              </a:rPr>
              <a:t>ě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è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a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ā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d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á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ǎ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 d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à</a:t>
            </a:r>
            <a:endParaRPr b="1" lang="en-US" sz="24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i 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ī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dí 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ǐ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 dì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u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ū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ú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ǔ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 dù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12" name="Picture 6" descr="D:\logo.gif"/>
          <p:cNvPicPr/>
          <p:nvPr/>
        </p:nvPicPr>
        <p:blipFill>
          <a:blip r:embed="rId3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13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8C3C-8401-4E02-B8A5-006CFC2E466E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14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E:\work\新课标配套课件全集\小学全集\mxy\小学语文\图片\0cyc.gif"/>
          <p:cNvPicPr/>
          <p:nvPr/>
        </p:nvPicPr>
        <p:blipFill>
          <a:blip r:embed="rId2"/>
          <a:stretch/>
        </p:blipFill>
        <p:spPr>
          <a:xfrm>
            <a:off x="1065240" y="1065240"/>
            <a:ext cx="2000160" cy="5713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3" descr="E:\work\新课标配套课件全集\小学全集\mxy\小学语文\图片\yw1p13_top.png"/>
          <p:cNvPicPr/>
          <p:nvPr/>
        </p:nvPicPr>
        <p:blipFill>
          <a:blip r:embed="rId3"/>
          <a:stretch/>
        </p:blipFill>
        <p:spPr>
          <a:xfrm>
            <a:off x="1714680" y="1600200"/>
            <a:ext cx="5715000" cy="3486240"/>
          </a:xfrm>
          <a:prstGeom prst="rect">
            <a:avLst/>
          </a:prstGeom>
          <a:ln w="0">
            <a:noFill/>
          </a:ln>
        </p:spPr>
      </p:pic>
      <p:grpSp>
        <p:nvGrpSpPr>
          <p:cNvPr id="517" name="Group 4"/>
          <p:cNvGrpSpPr/>
          <p:nvPr/>
        </p:nvGrpSpPr>
        <p:grpSpPr>
          <a:xfrm>
            <a:off x="3886200" y="5257800"/>
            <a:ext cx="3657600" cy="1143000"/>
            <a:chOff x="3886200" y="5257800"/>
            <a:chExt cx="3657600" cy="1143000"/>
          </a:xfrm>
        </p:grpSpPr>
        <p:sp>
          <p:nvSpPr>
            <p:cNvPr id="518" name="AutoShape 5"/>
            <p:cNvSpPr/>
            <p:nvPr/>
          </p:nvSpPr>
          <p:spPr>
            <a:xfrm>
              <a:off x="3886200" y="5257800"/>
              <a:ext cx="3657600" cy="1143000"/>
            </a:xfrm>
            <a:prstGeom prst="cloudCallout">
              <a:avLst>
                <a:gd name="adj1" fmla="val -16708"/>
                <a:gd name="adj2" fmla="val -114722"/>
              </a:avLst>
            </a:prstGeom>
            <a:solidFill>
              <a:srgbClr val="ffcccc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  <p:sp>
          <p:nvSpPr>
            <p:cNvPr id="519" name="Rectangle 6"/>
            <p:cNvSpPr/>
            <p:nvPr/>
          </p:nvSpPr>
          <p:spPr>
            <a:xfrm>
              <a:off x="5244840" y="5486400"/>
              <a:ext cx="123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楷体_GB2312"/>
                </a:rPr>
                <a:t>读一读，编一编。</a:t>
              </a: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pic>
        <p:nvPicPr>
          <p:cNvPr id="520" name="Picture 7" descr="D:\logo.gif"/>
          <p:cNvPicPr/>
          <p:nvPr/>
        </p:nvPicPr>
        <p:blipFill>
          <a:blip r:embed="rId4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21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63B4-F4CA-43D0-91E1-F8976E4CFF71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22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34" descr="E:\work\新课标配套课件全集\小学全集\mxy\小学语文\图片\0cyc.gif"/>
          <p:cNvPicPr/>
          <p:nvPr/>
        </p:nvPicPr>
        <p:blipFill>
          <a:blip r:embed="rId2"/>
          <a:stretch/>
        </p:blipFill>
        <p:spPr>
          <a:xfrm>
            <a:off x="1065240" y="1065240"/>
            <a:ext cx="2000160" cy="5713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9" descr="E:\work\新课标配套课件全集\小学全集\mxy\小学语文\图片\yw1p13_top00.png"/>
          <p:cNvPicPr/>
          <p:nvPr/>
        </p:nvPicPr>
        <p:blipFill>
          <a:blip r:embed="rId3"/>
          <a:stretch/>
        </p:blipFill>
        <p:spPr>
          <a:xfrm>
            <a:off x="1143000" y="1684440"/>
            <a:ext cx="4610160" cy="28112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1" descr="E:\work\新课标配套课件全集\小学全集\mxy\小学语文\图片\yw1p13_txt.png"/>
          <p:cNvPicPr/>
          <p:nvPr/>
        </p:nvPicPr>
        <p:blipFill>
          <a:blip r:embed="rId4"/>
          <a:stretch/>
        </p:blipFill>
        <p:spPr>
          <a:xfrm>
            <a:off x="5105520" y="2792520"/>
            <a:ext cx="3268440" cy="33033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2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2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ED5E-716D-4F63-8E0F-B0A482DB9CF1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28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29" name="矩形 23560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www.Lspjy.com </a:t>
            </a: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cz.Lspjy.com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CD43-B33D-4DA6-ACD1-F0B5B1319564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3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3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4"/>
          <p:cNvSpPr/>
          <p:nvPr/>
        </p:nvSpPr>
        <p:spPr>
          <a:xfrm>
            <a:off x="3200400" y="2438280"/>
            <a:ext cx="3809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悟空本领特别大，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天兵天将全不怕，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打败哪吒三太子，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乐得悟空笑哈哈。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4079880" y="1782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读儿歌：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59" name="Picture 6" descr="D:\logo.gif"/>
          <p:cNvPicPr/>
          <p:nvPr/>
        </p:nvPicPr>
        <p:blipFill>
          <a:blip r:embed="rId3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60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5F31-E613-4A27-971C-2AE76FEECCEA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61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E:\work\新课标配套课件全集\小学全集\mxy\小学语文\图片\yw1p12_z.png"/>
          <p:cNvPicPr/>
          <p:nvPr/>
        </p:nvPicPr>
        <p:blipFill>
          <a:blip r:embed="rId3"/>
          <a:stretch/>
        </p:blipFill>
        <p:spPr>
          <a:xfrm>
            <a:off x="1654200" y="1752480"/>
            <a:ext cx="5834160" cy="44244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5" descr="D:\logo.gif"/>
          <p:cNvPicPr/>
          <p:nvPr/>
        </p:nvPicPr>
        <p:blipFill>
          <a:blip r:embed="rId4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65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C4AD-6C10-4362-A776-EB33F47F3D9B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6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4">
            <a:hlinkClick r:id="rId3"/>
          </p:cNvPr>
          <p:cNvSpPr/>
          <p:nvPr/>
        </p:nvSpPr>
        <p:spPr>
          <a:xfrm>
            <a:off x="1905120" y="1752480"/>
            <a:ext cx="93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d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69" name="Picture 9" descr="E:\work\新课标配套课件全集\小学全集\mxy\小学语文\图片\yw1p12_d.png"/>
          <p:cNvPicPr/>
          <p:nvPr/>
        </p:nvPicPr>
        <p:blipFill>
          <a:blip r:embed="rId4"/>
          <a:stretch/>
        </p:blipFill>
        <p:spPr>
          <a:xfrm>
            <a:off x="2743200" y="1676520"/>
            <a:ext cx="4572000" cy="46288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7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6E99-4084-4CEF-ABE2-2DAEEFF09150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72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3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4">
            <a:hlinkClick r:id="rId3"/>
          </p:cNvPr>
          <p:cNvSpPr/>
          <p:nvPr/>
        </p:nvSpPr>
        <p:spPr>
          <a:xfrm>
            <a:off x="190512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t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75" name="Picture 6" descr="E:\work\新课标配套课件全集\小学全集\mxy\小学语文\图片\yw1p12_t.png"/>
          <p:cNvPicPr/>
          <p:nvPr/>
        </p:nvPicPr>
        <p:blipFill>
          <a:blip r:embed="rId4"/>
          <a:stretch/>
        </p:blipFill>
        <p:spPr>
          <a:xfrm>
            <a:off x="2705040" y="1535040"/>
            <a:ext cx="4000680" cy="45608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7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7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9554-6D07-4CC7-8204-1A75933CD608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78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026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1027">
            <a:hlinkClick r:id="rId3"/>
          </p:cNvPr>
          <p:cNvSpPr/>
          <p:nvPr/>
        </p:nvSpPr>
        <p:spPr>
          <a:xfrm>
            <a:off x="190512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n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81" name="Picture 1028" descr="E:\work\新课标配套课件全集\小学全集\mxy\小学语文\图片\yw1p12_n.png"/>
          <p:cNvPicPr/>
          <p:nvPr/>
        </p:nvPicPr>
        <p:blipFill>
          <a:blip r:embed="rId4"/>
          <a:stretch/>
        </p:blipFill>
        <p:spPr>
          <a:xfrm>
            <a:off x="2438280" y="1646280"/>
            <a:ext cx="4572000" cy="38401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029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FFB2-05A2-4F35-AA8C-4F1DECAAA04F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84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3">
            <a:hlinkClick r:id="rId3"/>
          </p:cNvPr>
          <p:cNvSpPr/>
          <p:nvPr/>
        </p:nvSpPr>
        <p:spPr>
          <a:xfrm>
            <a:off x="190512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l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87" name="Picture 7" descr="E:\work\新课标配套课件全集\小学全集\mxy\小学语文\图片\yw1p12_l.png"/>
          <p:cNvPicPr/>
          <p:nvPr/>
        </p:nvPicPr>
        <p:blipFill>
          <a:blip r:embed="rId4"/>
          <a:stretch/>
        </p:blipFill>
        <p:spPr>
          <a:xfrm>
            <a:off x="2362320" y="1635120"/>
            <a:ext cx="4572000" cy="38512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8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8B25-1CD0-4373-8BFA-24EEF516AEBB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90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91" name="矩形 18440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www.Lspjy.com </a:t>
            </a: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cz.Lspjy.com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8" descr="E:\work\新课标配套课件全集\小学全集\mxy\小学语文\图片\yw1p12_z.png"/>
          <p:cNvPicPr/>
          <p:nvPr/>
        </p:nvPicPr>
        <p:blipFill>
          <a:blip r:embed="rId3"/>
          <a:stretch/>
        </p:blipFill>
        <p:spPr>
          <a:xfrm>
            <a:off x="1441440" y="1752480"/>
            <a:ext cx="4121280" cy="312588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9"/>
          <p:cNvGrpSpPr/>
          <p:nvPr/>
        </p:nvGrpSpPr>
        <p:grpSpPr>
          <a:xfrm>
            <a:off x="4114800" y="1447920"/>
            <a:ext cx="4724280" cy="1981080"/>
            <a:chOff x="4114800" y="1447920"/>
            <a:chExt cx="4724280" cy="1981080"/>
          </a:xfrm>
        </p:grpSpPr>
        <p:sp>
          <p:nvSpPr>
            <p:cNvPr id="495" name="AutoShape 10"/>
            <p:cNvSpPr/>
            <p:nvPr/>
          </p:nvSpPr>
          <p:spPr>
            <a:xfrm>
              <a:off x="4114800" y="1447920"/>
              <a:ext cx="4724280" cy="1981080"/>
            </a:xfrm>
            <a:prstGeom prst="cloudCallout">
              <a:avLst>
                <a:gd name="adj1" fmla="val -31953"/>
                <a:gd name="adj2" fmla="val 78365"/>
              </a:avLst>
            </a:prstGeom>
            <a:solidFill>
              <a:srgbClr val="ffcccc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  <p:sp>
          <p:nvSpPr>
            <p:cNvPr id="496" name="Text Box 11"/>
            <p:cNvSpPr/>
            <p:nvPr/>
          </p:nvSpPr>
          <p:spPr>
            <a:xfrm>
              <a:off x="4647960" y="1676520"/>
              <a:ext cx="358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    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再看看图片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你发现了什么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?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能想个办法记住字母吗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?</a:t>
              </a:r>
              <a:r>
                <a:rPr b="1" lang="zh-CN" sz="2800" spc="-1" strike="noStrike">
                  <a:solidFill>
                    <a:srgbClr val="800080"/>
                  </a:solidFill>
                  <a:latin typeface="楷体_GB2312"/>
                </a:rPr>
                <a:t> </a:t>
              </a: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pic>
        <p:nvPicPr>
          <p:cNvPr id="497" name="Picture 12" descr="D:\logo.gif"/>
          <p:cNvPicPr/>
          <p:nvPr/>
        </p:nvPicPr>
        <p:blipFill>
          <a:blip r:embed="rId4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98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CE72-088E-4F0E-8115-911572333B43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99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E:\work\新课标配套课件全集\小学全集\mxy\小学语文\图片\0xyx.gif"/>
          <p:cNvPicPr/>
          <p:nvPr/>
        </p:nvPicPr>
        <p:blipFill>
          <a:blip r:embed="rId2"/>
          <a:stretch/>
        </p:blipFill>
        <p:spPr>
          <a:xfrm>
            <a:off x="1065240" y="1065240"/>
            <a:ext cx="1977840" cy="5493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E:\work\新课标配套课件全集\小学全集\mxy\小学语文\图片\xie_d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2176560"/>
            <a:ext cx="1486080" cy="25034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E:\work\新课标配套课件全集\小学全集\mxy\小学语文\图片\xie_t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27280" y="2225520"/>
            <a:ext cx="1121040" cy="24228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E:\work\新课标配套课件全集\小学全集\mxy\小学语文\图片\xie_n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03920" y="2168640"/>
            <a:ext cx="1268280" cy="24796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E:\work\新课标配套课件全集\小学全集\mxy\小学语文\图片\xie_l.pn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46800" y="2133720"/>
            <a:ext cx="1349280" cy="22971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D:\logo.gif"/>
          <p:cNvPicPr/>
          <p:nvPr/>
        </p:nvPicPr>
        <p:blipFill>
          <a:blip r:embed="rId11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06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425D-23C7-4DF6-A5B1-E93962ECDCE1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07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7T10:39:03Z</dcterms:created>
  <dc:creator/>
  <dc:description/>
  <cp:keywords/>
  <dc:language>en-US</dc:language>
  <cp:lastModifiedBy>User</cp:lastModifiedBy>
  <dcterms:modified xsi:type="dcterms:W3CDTF">2016-10-05T12:11:48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